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E0A4-501F-448D-A8C2-6D28FEB6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FBD9-EB10-4CEF-8AE6-9ADEEC22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BDBA-936A-4484-BC70-DA16309FF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E649-623E-4715-948E-A4135742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A324-F3DE-458C-9067-C7BA8C07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CDE6-0F07-4BF0-BE51-4985E925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4961-8C67-4DA8-BC1F-DC402B42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4D0E-65F3-4640-BFF8-EB2F4CC7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64D2-28A1-4EBC-AA6C-24B03A70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1C5A-DB82-42B6-BA29-E62F3D46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34A1-6616-4335-BDCB-9E0BCED6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6049-CB1C-4D83-81AC-1EBFE59A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5E87-7D13-4AFB-824A-47D8D6A63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erit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built from objects/instances of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.O. approach – build on earlier work. Use classes in library and ones you have written 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s: declared final can not be overrid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: declared final can not be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: declared final can not be sub cla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gram that maintains graphical shapes – they are similar (position, color, siz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 class “Shap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2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abstract class Shape {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class Circle extends Shape {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.drawOval ( x, y, size, siz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pe is incompl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eyword ‘abstract’ used in Shape prevents attempts to create an instance of the class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 method in Shape is just a header the subclass must implement it as ‘display’ in Circle do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class that includes methods that are abstract must also be abs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 classes higher up the class hierarchy become more general or abs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a class similar to one already written in text “Sphere” page 19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ere has radius and position (actually draws an Oval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ed will be used for 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“Bubble” page 194 will “extend” Sphere. Bubble inherits from Sp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is a sub class of Sp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ed” less private than pr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private than 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vate int x, y;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/ x and y can not be used by another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ed int x , y; // can be used by another sub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pe rules: a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– from an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ed – from the class and sub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te – only from the curren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variables only inside a particular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riding/Overlo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riding: same name and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oading: method with same name as class but different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class may add additional methods, variables and override methods of it’s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 Diagrams: show which classes inherit from oth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1676520"/>
            <a:ext cx="19810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21337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3124080"/>
            <a:ext cx="17524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3124080"/>
            <a:ext cx="16765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4419720"/>
            <a:ext cx="18288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32767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62720" y="33526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4572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b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580920" y="274320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274320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va uses single line inherita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public or protected method may be used by any sub class if the child “extrended” the paren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” – used by subclass to call it’s immediate super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.display(paper); // uses super class method “display” and not the method in the child class (sub class) “displa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“ne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ass with no constructors – Java assumes a single one with zero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ass with one or more constructors that require zero parameter constructor must be explicitly written. (Java does not assume 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uctors not inherited – must be explicitly called by sub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oon” class page 19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ds a constructor “Balloon” which is passed through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Balloon” page 200 – holds a constructor passed in two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( ) is called from the immediate super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Balloon” – holds a constructor, passed three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 is called with three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4:19:30Z</dcterms:created>
  <dc:creator>ITS</dc:creator>
  <dc:description/>
  <dc:language>en-US</dc:language>
  <cp:lastModifiedBy>ITS</cp:lastModifiedBy>
  <dcterms:modified xsi:type="dcterms:W3CDTF">2005-05-03T15:42:50Z</dcterms:modified>
  <cp:revision>3</cp:revision>
  <dc:subject/>
  <dc:title>Inheritance Chapter 10</dc:title>
</cp:coreProperties>
</file>